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D60-A7DB-4D78-8CC5-6D0B890B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1C4-B213-4CDB-B1CB-8D240FE5A2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7202-F6F2-476C-B2C2-7C8463CB6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48B-76AF-4F29-920B-B2475ED0F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EC05-81AE-4E84-9BD2-833F46C50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D46-2F20-473B-A2A9-6EA90E56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CC8-F5AA-4CB5-A6E3-7543CDAD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2AD-9CF7-4AD6-A5BA-6CA74263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E69-2F87-4172-9AD5-C0540FA1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CA6-673C-4559-A5E6-FB5BEF5E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056-995F-4A7B-A41F-1057709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112-BE22-488B-A6C7-E871F0AF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04F-5302-467B-A57A-11EC320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A2B-CFAC-411C-B134-E3D9B21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179-D3BC-4E03-8CB9-53DBBC6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00B-D1AA-4593-915B-784EE84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1A7-107F-41F5-9403-8D43783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5C7-653C-4CA9-9A79-AF78936722D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orld History 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th Gr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rvey Cours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historic – Medieval (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entury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ught thematical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Religion, Government, Conquest, Geography, Society, Economics and Engineer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se Boo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ld History: The Human Journey by Holt. Online Edi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2451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s geography shaped histo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societies organiz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have ancient religions had such a lasting impac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actors encourage economic and technological develop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ve ancient civilizations impacted our own live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Skil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eful reading and note-tak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ing and problem-sol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ying historical and geographical princi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p-reading and analyzing geographical docu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an argu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itical thinking and reflective reason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ing &amp; Assessm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69000"/>
          </a:bodyPr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ding poli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icipation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pter Quizzes/Unit Tests 10-15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signments (Essays/Presentations) 20-25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nal Semester Exam 2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ily writing and reading assignments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pen-note quizz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oup and individual projects and present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osed-note multiple-choice and essay exam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6520" indent="-236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eld Trip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oman Visi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sibly a trip to th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s of Parliament T.B.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ail: hknight@acs-schools.c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nrietta Kn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1:28Z</dcterms:created>
  <dc:creator/>
  <dc:description/>
  <dc:language>en-US</dc:language>
  <cp:lastModifiedBy>Microsoft Office User</cp:lastModifiedBy>
  <dcterms:modified xsi:type="dcterms:W3CDTF">2011-09-22T15:12:38Z</dcterms:modified>
  <cp:revision>21</cp:revision>
  <dc:subject/>
  <dc:title>IB History</dc:title>
</cp:coreProperties>
</file>